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7FA-E20B-4E9B-BE6A-B2BE06287F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1C5-C89A-4C6F-9466-1548873C4492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F36-65E5-4367-AE19-69F280394A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8133-E222-41CD-9BDF-005C780BD6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B87-A1A3-4CB8-91A1-C838410EC2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蓝色1背景 (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08b8"/>
                </a:solidFill>
                <a:latin typeface="黑体"/>
                <a:ea typeface="黑体"/>
              </a:rPr>
              <a:t>第二届全国高校（高职高专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08b8"/>
                </a:solidFill>
                <a:latin typeface="黑体"/>
                <a:ea typeface="黑体"/>
              </a:rPr>
              <a:t>微课教学比赛规则及评审标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黑体"/>
                <a:ea typeface="黑体"/>
              </a:rPr>
              <a:t>摘自</a:t>
            </a:r>
            <a:r>
              <a:rPr b="1" lang="en-US" sz="3200" spc="-1" strike="noStrike">
                <a:solidFill>
                  <a:srgbClr val="1508b8"/>
                </a:solidFill>
                <a:latin typeface="黑体"/>
                <a:ea typeface="黑体"/>
              </a:rPr>
              <a:t>http://www.enetedu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weike.enetedu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377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093680"/>
            <a:ext cx="914400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08b8"/>
                </a:solidFill>
                <a:latin typeface="Calibri"/>
              </a:rPr>
              <a:t>第二届全国高校（高职高专）微课教学比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377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a\AppData\Local\Temp\360zip$Temp\360$0\2.公布版（红头、盖章）：第二届  (高职高专）微课比赛通知0000.jpg"/>
          <p:cNvPicPr/>
          <p:nvPr/>
        </p:nvPicPr>
        <p:blipFill>
          <a:blip r:embed="rId2"/>
          <a:stretch/>
        </p:blipFill>
        <p:spPr>
          <a:xfrm>
            <a:off x="468360" y="696960"/>
            <a:ext cx="3743280" cy="4510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a\AppData\Local\Temp\360zip$Temp\360$1\1.公布版（红头、盖章）：第二届  (高职高专）微课比赛通知0001.jpg"/>
          <p:cNvPicPr/>
          <p:nvPr/>
        </p:nvPicPr>
        <p:blipFill>
          <a:blip r:embed="rId3"/>
          <a:stretch/>
        </p:blipFill>
        <p:spPr>
          <a:xfrm>
            <a:off x="5040360" y="1273320"/>
            <a:ext cx="31050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8"/>
          <p:cNvGrpSpPr/>
          <p:nvPr/>
        </p:nvGrpSpPr>
        <p:grpSpPr>
          <a:xfrm>
            <a:off x="5111640" y="0"/>
            <a:ext cx="4032000" cy="540720"/>
            <a:chOff x="5111640" y="0"/>
            <a:chExt cx="4032000" cy="540720"/>
          </a:xfrm>
        </p:grpSpPr>
        <p:sp>
          <p:nvSpPr>
            <p:cNvPr id="92" name="矩形 9"/>
            <p:cNvSpPr/>
            <p:nvPr/>
          </p:nvSpPr>
          <p:spPr>
            <a:xfrm>
              <a:off x="5326920" y="0"/>
              <a:ext cx="3816360" cy="4420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年高职高专微课比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 flipV="1">
              <a:off x="5111640" y="495720"/>
              <a:ext cx="4032000" cy="446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417672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Gulim"/>
                <a:ea typeface="黑体"/>
              </a:rPr>
              <a:t>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9"/>
          <p:cNvSpPr/>
          <p:nvPr/>
        </p:nvSpPr>
        <p:spPr>
          <a:xfrm>
            <a:off x="358920" y="1344600"/>
            <a:ext cx="8137440" cy="378144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届全国高校（高职高专）微课教学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办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育部全国高校教师网络培训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等职业技术教育研究会教学研究与资源建设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赛制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赛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推荐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7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赛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省内评审、推荐</a:t>
            </a:r>
            <a:r>
              <a:rPr b="0" lang="zh-CN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8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决赛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国评审、评奖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1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赛事主办单位不向参赛教师或学校收取决赛评审费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8"/>
          <p:cNvGrpSpPr/>
          <p:nvPr/>
        </p:nvGrpSpPr>
        <p:grpSpPr>
          <a:xfrm>
            <a:off x="5111640" y="0"/>
            <a:ext cx="4032000" cy="540720"/>
            <a:chOff x="5111640" y="0"/>
            <a:chExt cx="4032000" cy="540720"/>
          </a:xfrm>
        </p:grpSpPr>
        <p:sp>
          <p:nvSpPr>
            <p:cNvPr id="97" name="矩形 9"/>
            <p:cNvSpPr/>
            <p:nvPr/>
          </p:nvSpPr>
          <p:spPr>
            <a:xfrm>
              <a:off x="5326920" y="0"/>
              <a:ext cx="3816360" cy="4420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年高职高专微课比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0"/>
            <p:cNvSpPr/>
            <p:nvPr/>
          </p:nvSpPr>
          <p:spPr>
            <a:xfrm flipV="1">
              <a:off x="5111640" y="495720"/>
              <a:ext cx="4032000" cy="446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"/>
          <p:cNvSpPr/>
          <p:nvPr/>
        </p:nvSpPr>
        <p:spPr>
          <a:xfrm>
            <a:off x="0" y="0"/>
            <a:ext cx="417672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Gulim"/>
                <a:ea typeface="黑体"/>
              </a:rPr>
              <a:t>申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19"/>
          <p:cNvSpPr/>
          <p:nvPr/>
        </p:nvSpPr>
        <p:spPr>
          <a:xfrm>
            <a:off x="144360" y="1633680"/>
            <a:ext cx="8640720" cy="356364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届全国高校（高职高专）微课教学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国高职高专各专业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申报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全国高校微课教学比赛”网站（</a:t>
            </a:r>
            <a:r>
              <a:rPr b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http:// weike.enetedu.com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内容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程目录    符合需要   体现特色   结合特点   简明易懂   短小精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----1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持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等职业教育专业教学资源库向参赛教师赠送积分卡、提供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http:// www.cchve.com.cn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学视频    演示文稿     教学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8"/>
          <p:cNvGrpSpPr/>
          <p:nvPr/>
        </p:nvGrpSpPr>
        <p:grpSpPr>
          <a:xfrm>
            <a:off x="5111640" y="0"/>
            <a:ext cx="4032000" cy="540720"/>
            <a:chOff x="5111640" y="0"/>
            <a:chExt cx="4032000" cy="540720"/>
          </a:xfrm>
        </p:grpSpPr>
        <p:sp>
          <p:nvSpPr>
            <p:cNvPr id="102" name="矩形 9"/>
            <p:cNvSpPr/>
            <p:nvPr/>
          </p:nvSpPr>
          <p:spPr>
            <a:xfrm>
              <a:off x="5326920" y="0"/>
              <a:ext cx="3816360" cy="4420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年高职高专微课比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0"/>
            <p:cNvSpPr/>
            <p:nvPr/>
          </p:nvSpPr>
          <p:spPr>
            <a:xfrm flipV="1">
              <a:off x="5111640" y="495720"/>
              <a:ext cx="4032000" cy="446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6"/>
          <p:cNvSpPr/>
          <p:nvPr/>
        </p:nvSpPr>
        <p:spPr>
          <a:xfrm>
            <a:off x="0" y="0"/>
            <a:ext cx="417672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Gulim"/>
                <a:ea typeface="黑体"/>
              </a:rPr>
              <a:t>评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9"/>
          <p:cNvSpPr/>
          <p:nvPr/>
        </p:nvSpPr>
        <p:spPr>
          <a:xfrm>
            <a:off x="216000" y="1920960"/>
            <a:ext cx="8640720" cy="3276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届全国高校（高职高专）微课教学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品规范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材料完整     技术规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学安排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题价值   教学设计与组织    教学方法与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学效果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达成    教学特色    教师风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络评价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受欢迎程度、点击率、投票率、用户评价、作者与用户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况、收藏次数、分享次数、讨论热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8"/>
          <p:cNvGrpSpPr/>
          <p:nvPr/>
        </p:nvGrpSpPr>
        <p:grpSpPr>
          <a:xfrm>
            <a:off x="5111640" y="0"/>
            <a:ext cx="4032000" cy="540720"/>
            <a:chOff x="5111640" y="0"/>
            <a:chExt cx="4032000" cy="540720"/>
          </a:xfrm>
        </p:grpSpPr>
        <p:sp>
          <p:nvSpPr>
            <p:cNvPr id="107" name="矩形 9"/>
            <p:cNvSpPr/>
            <p:nvPr/>
          </p:nvSpPr>
          <p:spPr>
            <a:xfrm>
              <a:off x="5326920" y="0"/>
              <a:ext cx="3816360" cy="4420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年高职高专微课比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"/>
            <p:cNvSpPr/>
            <p:nvPr/>
          </p:nvSpPr>
          <p:spPr>
            <a:xfrm flipV="1">
              <a:off x="5111640" y="495720"/>
              <a:ext cx="4032000" cy="446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6"/>
          <p:cNvSpPr/>
          <p:nvPr/>
        </p:nvSpPr>
        <p:spPr>
          <a:xfrm>
            <a:off x="0" y="0"/>
            <a:ext cx="417672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Gulim"/>
                <a:ea typeface="黑体"/>
              </a:rPr>
              <a:t>评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9"/>
          <p:cNvSpPr/>
          <p:nvPr/>
        </p:nvSpPr>
        <p:spPr>
          <a:xfrm>
            <a:off x="179280" y="1633680"/>
            <a:ext cx="8640720" cy="331128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届全国高校（高职高专）微课教学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奖    项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奖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二、三等奖，优秀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优秀组织奖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--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  省赛组织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著作权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者享有作品的著作权，参赛者须同意授权赛事主办方享有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络传播权。所有参赛作品向社会免费开放，主办方委托单位具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专属出版权，出版后，原创者有署名权及获得报酬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赛作品不得侵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619280" y="52704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 flipV="1">
            <a:off x="0" y="696600"/>
            <a:ext cx="4176720" cy="4608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0"/>
            <a:ext cx="266400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Gulim"/>
                <a:ea typeface="黑体"/>
              </a:rPr>
              <a:t>微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9"/>
          <p:cNvSpPr/>
          <p:nvPr/>
        </p:nvSpPr>
        <p:spPr>
          <a:xfrm>
            <a:off x="0" y="2389320"/>
            <a:ext cx="3527280" cy="2052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微课程是基于一门学科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程的某个重要的专题（或某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元、主题等）而设计开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一种微型化的在线视频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络课程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2"/>
          <p:cNvGrpSpPr/>
          <p:nvPr/>
        </p:nvGrpSpPr>
        <p:grpSpPr>
          <a:xfrm>
            <a:off x="3780000" y="2065320"/>
            <a:ext cx="5364000" cy="2700360"/>
            <a:chOff x="3780000" y="2065320"/>
            <a:chExt cx="5364000" cy="2700360"/>
          </a:xfrm>
        </p:grpSpPr>
        <p:sp>
          <p:nvSpPr>
            <p:cNvPr id="116" name="圆角矩形 19"/>
            <p:cNvSpPr/>
            <p:nvPr/>
          </p:nvSpPr>
          <p:spPr>
            <a:xfrm>
              <a:off x="3780000" y="2065320"/>
              <a:ext cx="5364000" cy="2700360"/>
            </a:xfrm>
            <a:prstGeom prst="roundRect">
              <a:avLst>
                <a:gd name="adj" fmla="val 1189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eeeee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微课程类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视频实拍            屏幕捕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0" lang="zh-CN" sz="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荷塘月色背后的烦恼</a:t>
              </a:r>
              <a:r>
                <a:rPr b="0" lang="en-US" sz="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二维动画            网页交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罗斯福的三块面包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型课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三维动画</a:t>
              </a:r>
              <a:r>
                <a:rPr b="0" lang="zh-CN" sz="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血管再成型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8" descr=""/>
            <p:cNvPicPr/>
            <p:nvPr/>
          </p:nvPicPr>
          <p:blipFill>
            <a:blip r:embed="rId1"/>
            <a:stretch/>
          </p:blipFill>
          <p:spPr>
            <a:xfrm>
              <a:off x="5004720" y="2677680"/>
              <a:ext cx="1152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9" descr=""/>
            <p:cNvPicPr/>
            <p:nvPr/>
          </p:nvPicPr>
          <p:blipFill>
            <a:blip r:embed="rId2"/>
            <a:stretch/>
          </p:blipFill>
          <p:spPr>
            <a:xfrm>
              <a:off x="5039640" y="3576600"/>
              <a:ext cx="11397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0" descr=""/>
            <p:cNvPicPr/>
            <p:nvPr/>
          </p:nvPicPr>
          <p:blipFill>
            <a:blip r:embed="rId3"/>
            <a:stretch/>
          </p:blipFill>
          <p:spPr>
            <a:xfrm>
              <a:off x="7596360" y="2604600"/>
              <a:ext cx="1152360" cy="6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3" descr=""/>
            <p:cNvPicPr/>
            <p:nvPr/>
          </p:nvPicPr>
          <p:blipFill>
            <a:blip r:embed="rId4"/>
            <a:stretch/>
          </p:blipFill>
          <p:spPr>
            <a:xfrm>
              <a:off x="7595640" y="3612960"/>
              <a:ext cx="1166760" cy="65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3772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\"/>
          <p:cNvPicPr/>
          <p:nvPr/>
        </p:nvPicPr>
        <p:blipFill>
          <a:blip r:embed="rId2"/>
          <a:stretch/>
        </p:blipFill>
        <p:spPr>
          <a:xfrm>
            <a:off x="0" y="0"/>
            <a:ext cx="9144000" cy="537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619280" y="52704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 flipV="1">
            <a:off x="0" y="661680"/>
            <a:ext cx="4176720" cy="4608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0"/>
            <a:ext cx="352728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幼圆"/>
                <a:ea typeface="幼圆"/>
              </a:rPr>
              <a:t>微课程的基本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9"/>
          <p:cNvSpPr/>
          <p:nvPr/>
        </p:nvSpPr>
        <p:spPr>
          <a:xfrm>
            <a:off x="5148360" y="2352600"/>
            <a:ext cx="3527280" cy="205272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注意点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：知识点（问题）的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、知识点（问题）内容萃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多少都要适中。大的知识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内容多的知识点可进行拆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以保持微课的“微”这个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点与优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0" y="3792600"/>
            <a:ext cx="1403280" cy="1511280"/>
          </a:xfrm>
          <a:prstGeom prst="rect">
            <a:avLst/>
          </a:prstGeom>
          <a:gradFill rotWithShape="0">
            <a:gsLst>
              <a:gs pos="0">
                <a:srgbClr val="f43d18"/>
              </a:gs>
              <a:gs pos="100000">
                <a:srgbClr val="711c0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"/>
              </a:rPr>
              <a:t>分析重点、难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"/>
              </a:rPr>
              <a:t>适合用可视化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"/>
              </a:rPr>
              <a:t>图形化的表现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"/>
              </a:rPr>
              <a:t>为知识点取一个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"/>
              </a:rPr>
              <a:t>亮的好名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16000" y="32180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知识萃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1727280" y="3470400"/>
            <a:ext cx="1224000" cy="1869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确定教学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、表现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确定教学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、练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3311640" y="3002040"/>
            <a:ext cx="1224000" cy="23382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撰写脚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文本、图片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视频、音频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"/>
              </a:rPr>
              <a:t>动画素材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1943280" y="28576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教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3456000" y="23893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媒体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19"/>
          <p:cNvSpPr/>
          <p:nvPr/>
        </p:nvSpPr>
        <p:spPr>
          <a:xfrm>
            <a:off x="5219640" y="2425680"/>
            <a:ext cx="3529080" cy="205272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注意点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内容的设计要在如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讲清楚、讲明白上重点下功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9"/>
          <p:cNvSpPr/>
          <p:nvPr/>
        </p:nvSpPr>
        <p:spPr>
          <a:xfrm>
            <a:off x="5292720" y="2496960"/>
            <a:ext cx="3527280" cy="205272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注意点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媒体设计要想清楚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适的表现手段是什么，是用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像、拍屏、动画中一种还是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用综合手段。如果课程多，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作上力求成本低廉与快捷，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合批量化生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0"/>
          <p:cNvSpPr/>
          <p:nvPr/>
        </p:nvSpPr>
        <p:spPr>
          <a:xfrm flipV="1">
            <a:off x="0" y="696600"/>
            <a:ext cx="4176720" cy="4608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360036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幼圆"/>
                <a:ea typeface="幼圆"/>
              </a:rPr>
              <a:t>微课程的开发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9"/>
          <p:cNvGrpSpPr/>
          <p:nvPr/>
        </p:nvGrpSpPr>
        <p:grpSpPr>
          <a:xfrm>
            <a:off x="0" y="2028960"/>
            <a:ext cx="3573360" cy="2980440"/>
            <a:chOff x="0" y="2028960"/>
            <a:chExt cx="3573360" cy="2980440"/>
          </a:xfrm>
        </p:grpSpPr>
        <p:grpSp>
          <p:nvGrpSpPr>
            <p:cNvPr id="139" name="组合 12"/>
            <p:cNvGrpSpPr/>
            <p:nvPr/>
          </p:nvGrpSpPr>
          <p:grpSpPr>
            <a:xfrm>
              <a:off x="0" y="2028960"/>
              <a:ext cx="3573360" cy="2980440"/>
              <a:chOff x="0" y="2028960"/>
              <a:chExt cx="3573360" cy="2980440"/>
            </a:xfrm>
          </p:grpSpPr>
          <p:sp>
            <p:nvSpPr>
              <p:cNvPr id="140" name="Oval 43"/>
              <p:cNvSpPr/>
              <p:nvPr/>
            </p:nvSpPr>
            <p:spPr>
              <a:xfrm>
                <a:off x="628560" y="2336760"/>
                <a:ext cx="2260440" cy="2238480"/>
              </a:xfrm>
              <a:prstGeom prst="ellipse">
                <a:avLst/>
              </a:prstGeom>
              <a:gradFill rotWithShape="0">
                <a:gsLst>
                  <a:gs pos="0">
                    <a:srgbClr val="80fb11"/>
                  </a:gs>
                  <a:gs pos="100000">
                    <a:srgbClr val="1eb2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  <a:effectLst>
                <a:outerShdw dist="81185" dir="2321969" blurRad="0" rotWithShape="0">
                  <a:srgbClr val="18901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26"/>
              <p:cNvSpPr/>
              <p:nvPr/>
            </p:nvSpPr>
            <p:spPr>
              <a:xfrm>
                <a:off x="1214280" y="2028960"/>
                <a:ext cx="1089000" cy="745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5f5f5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27"/>
              <p:cNvSpPr/>
              <p:nvPr/>
            </p:nvSpPr>
            <p:spPr>
              <a:xfrm>
                <a:off x="1224360" y="2100960"/>
                <a:ext cx="108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28"/>
              <p:cNvSpPr/>
              <p:nvPr/>
            </p:nvSpPr>
            <p:spPr>
              <a:xfrm>
                <a:off x="2428920" y="2994120"/>
                <a:ext cx="1089000" cy="745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fb11"/>
                  </a:gs>
                  <a:gs pos="100000">
                    <a:srgbClr val="18901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8901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2484720" y="3144960"/>
                <a:ext cx="108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设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1"/>
              <p:cNvSpPr/>
              <p:nvPr/>
            </p:nvSpPr>
            <p:spPr>
              <a:xfrm>
                <a:off x="2135160" y="4091040"/>
                <a:ext cx="1090440" cy="745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9fa12"/>
                  </a:gs>
                  <a:gs pos="100000">
                    <a:srgbClr val="e2b2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2b22a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2"/>
              <p:cNvSpPr/>
              <p:nvPr/>
            </p:nvSpPr>
            <p:spPr>
              <a:xfrm>
                <a:off x="2094120" y="4179240"/>
                <a:ext cx="1256760" cy="8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开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33"/>
              <p:cNvSpPr/>
              <p:nvPr/>
            </p:nvSpPr>
            <p:spPr>
              <a:xfrm>
                <a:off x="0" y="2994120"/>
                <a:ext cx="1089000" cy="745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19191"/>
                  </a:gs>
                  <a:gs pos="100000">
                    <a:srgbClr val="7d040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7d040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34"/>
              <p:cNvSpPr/>
              <p:nvPr/>
            </p:nvSpPr>
            <p:spPr>
              <a:xfrm>
                <a:off x="72000" y="3108960"/>
                <a:ext cx="108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评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35"/>
              <p:cNvSpPr/>
              <p:nvPr/>
            </p:nvSpPr>
            <p:spPr>
              <a:xfrm>
                <a:off x="460080" y="4091040"/>
                <a:ext cx="1090440" cy="745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3674b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36"/>
              <p:cNvSpPr/>
              <p:nvPr/>
            </p:nvSpPr>
            <p:spPr>
              <a:xfrm>
                <a:off x="334080" y="417816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幼圆"/>
                  </a:rPr>
                  <a:t>实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45"/>
            <p:cNvSpPr/>
            <p:nvPr/>
          </p:nvSpPr>
          <p:spPr>
            <a:xfrm>
              <a:off x="1758600" y="2777760"/>
              <a:ext cx="0" cy="78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6"/>
            <p:cNvSpPr/>
            <p:nvPr/>
          </p:nvSpPr>
          <p:spPr>
            <a:xfrm flipH="1" flipV="1">
              <a:off x="1088280" y="3348000"/>
              <a:ext cx="669960" cy="21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 flipV="1">
              <a:off x="1758600" y="3391920"/>
              <a:ext cx="669960" cy="17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9"/>
            <p:cNvSpPr/>
            <p:nvPr/>
          </p:nvSpPr>
          <p:spPr>
            <a:xfrm flipH="1">
              <a:off x="1360440" y="3567600"/>
              <a:ext cx="397800" cy="52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0"/>
            <p:cNvSpPr/>
            <p:nvPr/>
          </p:nvSpPr>
          <p:spPr>
            <a:xfrm>
              <a:off x="1758600" y="3567600"/>
              <a:ext cx="523440" cy="52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圆角矩形 19"/>
          <p:cNvSpPr/>
          <p:nvPr/>
        </p:nvSpPr>
        <p:spPr>
          <a:xfrm>
            <a:off x="4572000" y="2533680"/>
            <a:ext cx="3851280" cy="262872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析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需求：为什么要制作这个微课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该微课程的目标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微课要解决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讲什么？ 讲给谁听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听众有什么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听众的基础如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听众应掌握哪些先前知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9"/>
          <p:cNvSpPr/>
          <p:nvPr/>
        </p:nvSpPr>
        <p:spPr>
          <a:xfrm>
            <a:off x="4500720" y="2352600"/>
            <a:ext cx="3851280" cy="2808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习目标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教学目标的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学习成果与表现形式的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课程主脚本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细节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活动与练习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教学活动的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练习与测验的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9"/>
          <p:cNvSpPr/>
          <p:nvPr/>
        </p:nvSpPr>
        <p:spPr>
          <a:xfrm>
            <a:off x="4392720" y="2317680"/>
            <a:ext cx="3851280" cy="2808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原型构想与开发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先制作个原型局部效果，看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是否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准备好全部素材和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评估效果是否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开发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初步自测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9"/>
          <p:cNvSpPr/>
          <p:nvPr/>
        </p:nvSpPr>
        <p:spPr>
          <a:xfrm>
            <a:off x="4319640" y="2317680"/>
            <a:ext cx="3852720" cy="2808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试用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制定标准检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检查与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找同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者提意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修改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9"/>
          <p:cNvSpPr/>
          <p:nvPr/>
        </p:nvSpPr>
        <p:spPr>
          <a:xfrm>
            <a:off x="4211640" y="2244600"/>
            <a:ext cx="3852720" cy="2808360"/>
          </a:xfrm>
          <a:prstGeom prst="roundRect">
            <a:avLst>
              <a:gd name="adj" fmla="val 11898"/>
            </a:avLst>
          </a:prstGeom>
          <a:gradFill rotWithShape="0">
            <a:gsLst>
              <a:gs pos="0">
                <a:srgbClr val="ffffff"/>
              </a:gs>
              <a:gs pos="100000">
                <a:srgbClr val="eeeeee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效果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过程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方法是否值得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投入产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思与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再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8" descr="circle"/>
          <p:cNvPicPr/>
          <p:nvPr/>
        </p:nvPicPr>
        <p:blipFill>
          <a:blip r:embed="rId1"/>
          <a:stretch/>
        </p:blipFill>
        <p:spPr>
          <a:xfrm>
            <a:off x="5967360" y="4329000"/>
            <a:ext cx="3176640" cy="13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203040" y="444600"/>
            <a:ext cx="880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华文中宋"/>
                <a:ea typeface="华文中宋"/>
              </a:rPr>
              <a:t>加快构建以就业为导向的现代职业教育体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华文中宋"/>
                <a:ea typeface="华文中宋"/>
              </a:rPr>
              <a:t>为促进经济提质增效升级提供人才支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797120" y="2928960"/>
            <a:ext cx="56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育部副部长  鲁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44880" y="3649680"/>
            <a:ext cx="49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0"/>
          <p:cNvSpPr/>
          <p:nvPr/>
        </p:nvSpPr>
        <p:spPr>
          <a:xfrm flipV="1">
            <a:off x="0" y="661680"/>
            <a:ext cx="4176720" cy="4608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0"/>
            <a:ext cx="331164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幼圆"/>
                <a:ea typeface="幼圆"/>
              </a:rPr>
              <a:t>微课建设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1080" y="1165320"/>
          <a:ext cx="4066920" cy="4160880"/>
        </p:xfrm>
        <a:graphic>
          <a:graphicData uri="http://schemas.openxmlformats.org/drawingml/2006/table">
            <a:tbl>
              <a:tblPr/>
              <a:tblGrid>
                <a:gridCol w="407880"/>
                <a:gridCol w="3659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刻谨记你的教学对象是谁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一个微课程只说一个知识点或技能点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课程尽量控制在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-1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分钟之内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不要轻易跳过教学步骤，即使很简单，很容易的内容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要给学习者提示性信息，比如：颜色、线条、标示；用符号图形标注；屏幕侧边列出关键字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问题的设计：基本问题、单元问题、核心问题、灵活使用多样化的教学策略促进学生思考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重要的基本概念，要说清楚是什么，还要说清楚不是什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用字母补充微课程不容易说清楚的地方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35640" y="1165320"/>
          <a:ext cx="4464000" cy="4159080"/>
        </p:xfrm>
        <a:graphic>
          <a:graphicData uri="http://schemas.openxmlformats.org/drawingml/2006/table">
            <a:tbl>
              <a:tblPr/>
              <a:tblGrid>
                <a:gridCol w="431640"/>
                <a:gridCol w="403236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学习单指导下看视频，告诉学生使用微课程的技巧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把微课程与相关资源和活动超链接起来，方便学生跳转学习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明确评价方法和考试方式，引导学生学习教学目标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要介绍主讲老师本人的情况，让学生了解老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要与其他教学活动相配合：在微课程中适当位置设置暂停，或者在后续中提示，便于学生浏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要有一个简短的总结：概括要点、帮助学习者梳理思路、强调重点和难点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留心学习其他领域的设计经验、注意借鉴、模仿与创造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细节方面注意：颜色搭配、速度、画面简洁、录制环境安静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6360" y="21733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资料摘自全国高校教师网络培训中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教师可登陆网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netedu.com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相关微课资料及上一届微课作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647640" y="1128600"/>
            <a:ext cx="7558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九）大幅度提升职业教育信息化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布职业教育信息化建设推进计划指导框架和数字校园建设规范（试行），加强对信息化建设的宏观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强中国职业教育信息资源网、全国中职学生管理信息系统等平台建设，完善信息化建设数据采集和监测机制。在此，要强调一下全国中等职业学校学生管理信息系统的建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8191440" y="5346720"/>
            <a:ext cx="1343520" cy="398880"/>
            <a:chOff x="8191440" y="5346720"/>
            <a:chExt cx="1343520" cy="398880"/>
          </a:xfrm>
        </p:grpSpPr>
        <p:sp>
          <p:nvSpPr>
            <p:cNvPr id="52" name="Oval 5"/>
            <p:cNvSpPr/>
            <p:nvPr/>
          </p:nvSpPr>
          <p:spPr>
            <a:xfrm>
              <a:off x="8669160" y="5388840"/>
              <a:ext cx="374760" cy="2394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8191440" y="53467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E053200-278C-430B-953C-7994EB07C011}" type="slidenum"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3"/>
          <p:cNvSpPr/>
          <p:nvPr/>
        </p:nvSpPr>
        <p:spPr>
          <a:xfrm flipV="1">
            <a:off x="468360" y="733320"/>
            <a:ext cx="475128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358920" y="274680"/>
            <a:ext cx="67975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三、</a:t>
            </a: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年要重点推进的几项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817560" y="1393920"/>
            <a:ext cx="7424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实施高职专业教学资源库建设项目，启动信息惠民工程职业教育数字资源试点项目，推进实施国家示范性职业学校数字资源共建共享计划（二期）等，着力提升信息技术的资源整合能力和优质资源远程输送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举办职业院校信息化教学大赛，推出一批大赛成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8191440" y="5346720"/>
            <a:ext cx="1343520" cy="398880"/>
            <a:chOff x="8191440" y="5346720"/>
            <a:chExt cx="1343520" cy="398880"/>
          </a:xfrm>
        </p:grpSpPr>
        <p:sp>
          <p:nvSpPr>
            <p:cNvPr id="58" name="Oval 5"/>
            <p:cNvSpPr/>
            <p:nvPr/>
          </p:nvSpPr>
          <p:spPr>
            <a:xfrm>
              <a:off x="8669160" y="5388840"/>
              <a:ext cx="374760" cy="2394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8191440" y="53467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807A46-2A72-4588-A4AA-0032AA537605}" type="slidenum"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直接连接符 3"/>
          <p:cNvSpPr/>
          <p:nvPr/>
        </p:nvSpPr>
        <p:spPr>
          <a:xfrm>
            <a:off x="324000" y="73332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6000" y="274680"/>
            <a:ext cx="67975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三、</a:t>
            </a: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2014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年要重点推进的几项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1000080" y="1600200"/>
            <a:ext cx="7458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参与教育教学。组织撰写职业教育教材质量评估报告，结果面向全社会公布，禁止不合格教材进入课堂。遴选或指导开发一批与产业发展同步、符合技术技能人才培养规律的优秀教材。同时，分行业组织开发基于企业生产实际的教学案例库，提升学生实习实训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8119800" y="5346720"/>
            <a:ext cx="1343520" cy="398880"/>
            <a:chOff x="8119800" y="5346720"/>
            <a:chExt cx="1343520" cy="398880"/>
          </a:xfrm>
        </p:grpSpPr>
        <p:sp>
          <p:nvSpPr>
            <p:cNvPr id="64" name="Oval 5"/>
            <p:cNvSpPr/>
            <p:nvPr/>
          </p:nvSpPr>
          <p:spPr>
            <a:xfrm>
              <a:off x="8669160" y="5388840"/>
              <a:ext cx="374760" cy="2394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8119800" y="53467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15ACFAF-EFF5-451D-9FEC-D9478EF94E8F}" type="slidenum"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直接连接符 3"/>
          <p:cNvSpPr/>
          <p:nvPr/>
        </p:nvSpPr>
        <p:spPr>
          <a:xfrm flipV="1">
            <a:off x="250920" y="733320"/>
            <a:ext cx="504180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287280" y="274680"/>
            <a:ext cx="67978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四、提升行业指导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b8"/>
                </a:solidFill>
                <a:latin typeface="Calibri"/>
              </a:rPr>
              <a:t>职业教育与成人教育司</a:t>
            </a:r>
            <a:r>
              <a:rPr b="1" lang="en-US" sz="3200" spc="-1" strike="noStrike">
                <a:solidFill>
                  <a:srgbClr val="1508b8"/>
                </a:solidFill>
                <a:latin typeface="Calibri"/>
              </a:rPr>
              <a:t>2014</a:t>
            </a:r>
            <a:r>
              <a:rPr b="1" lang="zh-CN" sz="3200" spc="-1" strike="noStrike">
                <a:solidFill>
                  <a:srgbClr val="1508b8"/>
                </a:solidFill>
                <a:latin typeface="Calibri"/>
              </a:rPr>
              <a:t>年工作要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649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加快职业教育信息化发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发布职业教育信息化建设推进计划指导框架和数字校园建设规范（试行）。推进职业教育数字资源跨区域、跨行业共建共享。做好职业教育优质数字教育资源征集工作。继续实施高职专业教学资源库建设项目。启动信息惠民工程职业教育数字资源试点项目。推进实施国家示范性职业学校数字资源共建共享计划（二期）。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举办职业院校教学信息化大赛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推出一批大赛成果。完善信息化建设数据采集和监测制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619280" y="45864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250920" y="465300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236600"/>
            <a:ext cx="4284720" cy="2233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0" y="921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08b8"/>
                </a:solidFill>
                <a:latin typeface="Calibri"/>
              </a:rPr>
              <a:t>全国高校微课教学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535640" y="1201680"/>
            <a:ext cx="4608360" cy="414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3325680"/>
            <a:ext cx="4284720" cy="2009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6"/>
          <p:cNvSpPr/>
          <p:nvPr/>
        </p:nvSpPr>
        <p:spPr>
          <a:xfrm>
            <a:off x="4896000" y="66204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http://www.enetedu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 flipV="1">
            <a:off x="0" y="661680"/>
            <a:ext cx="4176720" cy="4608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河南共推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作品参赛，高职院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作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本科院校共获得一等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，二等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，三等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，优秀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，高职无人获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37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42920" y="1909800"/>
            <a:ext cx="1004580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377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admin</cp:lastModifiedBy>
  <cp:lastPrinted>1899-12-30T00:00:00Z</cp:lastPrinted>
  <dcterms:modified xsi:type="dcterms:W3CDTF">2014-04-22T02:55:35Z</dcterms:modified>
  <cp:revision>6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